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800978"/>
        <c:axId val="55709777"/>
      </c:barChart>
      <c:catAx>
        <c:axId val="448009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09777"/>
        <c:crosses val="autoZero"/>
        <c:auto val="1"/>
        <c:lblAlgn val="ctr"/>
        <c:lblOffset val="100"/>
        <c:noMultiLvlLbl val="0"/>
      </c:catAx>
      <c:valAx>
        <c:axId val="557097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8009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55C0-7C55-4D67-AB6D-5C4EDB593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A3FA-869C-4D1B-8820-96DECC1E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C7C6-2501-43B2-8634-875949C59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53A2-3BEE-4E1E-AEF4-1132BA340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C94A-BF7B-4489-B5F8-E36E8BAD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4029-1D5E-44D8-92BF-5847424D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C432-CD0C-44B2-B280-4D0B7FD2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2E29-BD86-4EB6-972B-7C9E5A8E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F35A-6E7F-4848-8837-E49F2B94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EEBB-3D9D-4A1A-AE83-AF7B49FE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A3D9-2D6E-4BAD-9990-9E20AFC5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A6B1-FA6F-40BD-80E6-0E56816E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A48EF-64A8-47A8-9A44-21F8ADB88F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