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00367"/>
        <c:axId val="46938133"/>
      </c:barChart>
      <c:catAx>
        <c:axId val="21300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38133"/>
        <c:crosses val="autoZero"/>
        <c:auto val="1"/>
        <c:lblAlgn val="ctr"/>
        <c:lblOffset val="100"/>
        <c:noMultiLvlLbl val="0"/>
      </c:catAx>
      <c:valAx>
        <c:axId val="46938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0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FD9-7075-4C0D-92A6-F0FCAAA6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356-B48F-4891-81FC-68C922CE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A74-F94D-4A76-8207-C2697C04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E07-CF3E-4892-B8DD-B23259E9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635-1F2F-4725-BE51-9E3E8DF8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4E7-E657-44ED-9B55-419AA3D7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623-221D-432D-99B5-E73E361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AA5-B9BF-43FC-BA86-28059DA1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B59-8271-4750-80C9-052D8A7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E17-A7B6-47C4-93FB-1AFCC312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62E-80EF-48A7-8422-F64B8AD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4C7-8116-4ABD-9EC5-B72E208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D5C1-B5C8-4EB8-A522-CA6940DEF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