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8607"/>
        <c:axId val="57611937"/>
      </c:barChart>
      <c:catAx>
        <c:axId val="3198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11937"/>
        <c:crosses val="autoZero"/>
        <c:auto val="1"/>
        <c:lblAlgn val="ctr"/>
        <c:lblOffset val="100"/>
        <c:noMultiLvlLbl val="0"/>
      </c:catAx>
      <c:valAx>
        <c:axId val="57611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8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604-244E-4C9B-91A4-4D3C2555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D81-FEA9-4AF9-9F69-68F6EC43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318-6BD9-45BA-A3E3-88B3F91F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DDC-FD6D-41AE-821F-91962B51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F72-FC1D-4C88-BCF5-FB463302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D64-61D2-4A57-B7BF-F7A3BFAB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9CB-0712-47B9-8D86-774D475F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A32-C19C-487D-8428-D43FAA2D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5BC-6E33-4223-AEA8-E9E7653E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F85-B993-4F73-87CF-7682B6FE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D98-8089-4229-A3DB-109B0627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36C-F04E-4B62-B8B5-4CEA6DDB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F3104-6E3A-4675-9940-3640B67CEE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