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04657"/>
        <c:axId val="93441991"/>
      </c:barChart>
      <c:catAx>
        <c:axId val="26004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41991"/>
        <c:crosses val="autoZero"/>
        <c:auto val="1"/>
        <c:lblAlgn val="ctr"/>
        <c:lblOffset val="100"/>
        <c:noMultiLvlLbl val="0"/>
      </c:catAx>
      <c:valAx>
        <c:axId val="93441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04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2C4-8E64-4945-8C4D-4A01520C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35A-AA50-4D18-880C-EB9D777F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22F-15DE-4E39-84AF-5515A0F6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8BF-51A4-401B-A028-6E937928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614-D0CE-4A4E-A8F2-4C2D51A3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69D-17C8-46BE-A658-E113AC5B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C6C-AF54-42FA-9FF3-4CD5C7A9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451-A655-4FFA-A8CF-24A5561E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778-8FE2-4AA0-859F-A24B8B3D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B39-14B1-4F8B-B294-58FDEAAE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E37-3EDD-4458-91F8-25170DAE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05F-555A-4CD1-BA0D-E80B4ED1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21EDF-B6E6-4B4B-80B1-7E823CC508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