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218227"/>
        <c:axId val="87023560"/>
      </c:barChart>
      <c:catAx>
        <c:axId val="86218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23560"/>
        <c:crosses val="autoZero"/>
        <c:auto val="1"/>
        <c:lblAlgn val="ctr"/>
        <c:lblOffset val="100"/>
        <c:noMultiLvlLbl val="0"/>
      </c:catAx>
      <c:valAx>
        <c:axId val="87023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18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4AF1-157D-4C6F-A264-9F117228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6029-FCB3-4EE9-89C8-2CC5E1EF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6F5A-26C5-40CE-8128-BA710E55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347B-8C0B-403A-88B9-F7DB0549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D88B-11A2-4911-94CA-54EF7C4D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CD0B-3F33-40BD-89FA-3D63CE53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BBB-B320-4C06-9963-77CC343F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B76-F4E1-4B4B-A2FE-51571F22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C114-59A4-4EE5-9B9A-96DFC91B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D223-F013-43A0-B304-650AE26E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A99-EEF2-4D82-984B-7CDD4C2A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D63-80A9-4667-84F2-0D1D85C0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726D4-D430-4384-81F9-3D40A8D5B8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