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40318"/>
        <c:axId val="62310131"/>
      </c:barChart>
      <c:catAx>
        <c:axId val="36040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10131"/>
        <c:crosses val="autoZero"/>
        <c:auto val="1"/>
        <c:lblAlgn val="ctr"/>
        <c:lblOffset val="100"/>
        <c:noMultiLvlLbl val="0"/>
      </c:catAx>
      <c:valAx>
        <c:axId val="62310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40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624-564A-40FF-AE43-F18F18BB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54C-6021-4DC9-9896-C4D66696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8EC-2F5B-48A0-BB90-5676DB67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17B-BBBA-4673-8E0F-AF335106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FFB-37EF-42F2-939C-E7BEF1B0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BE9-2BB0-4DD7-86AA-DFA012A1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412-1CDA-43DF-8A8A-C18EAC66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688-27E5-4273-B373-4D044498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1D4-51A2-42B4-A12C-0E54A137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29B-FD22-4E2F-B487-9F4DAA2E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173-92B2-4A9A-AD58-957D63FB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81E-7B20-4037-A25E-8B47636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426DB-AB27-4E41-B86F-9D2C0E6C85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