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63289"/>
        <c:axId val="25237022"/>
      </c:barChart>
      <c:catAx>
        <c:axId val="64263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37022"/>
        <c:crosses val="autoZero"/>
        <c:auto val="1"/>
        <c:lblAlgn val="ctr"/>
        <c:lblOffset val="100"/>
        <c:noMultiLvlLbl val="0"/>
      </c:catAx>
      <c:valAx>
        <c:axId val="25237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63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67F-2933-4F1F-9012-A561295D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04F-39AB-4455-ACCE-6CB87726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D79-A1A0-4AED-B6BD-39C96736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8CC-5551-49B2-8361-27AC2A0D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CEB-B1A5-4D04-8799-634F9394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164-25DC-4725-9997-1AD181B3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881-0142-439E-8215-D24E0269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DA6-D379-46B0-9243-5AF0330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8BC-96C2-4685-AF55-38DD2DAC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991-5895-437D-9D92-9381775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7E7-69D0-4FAF-9CCB-1A3919D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597-C0A9-4B3A-AF73-9F610700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5C524-9C91-48C3-BACA-43D6CBB362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