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50172"/>
        <c:axId val="81610701"/>
      </c:barChart>
      <c:catAx>
        <c:axId val="12150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10701"/>
        <c:crosses val="autoZero"/>
        <c:auto val="1"/>
        <c:lblAlgn val="ctr"/>
        <c:lblOffset val="100"/>
        <c:noMultiLvlLbl val="0"/>
      </c:catAx>
      <c:valAx>
        <c:axId val="81610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50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EC9-F38F-45A8-8EB0-109B7455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79D-1DF3-4467-9948-98E96B81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39E-1E26-4ED1-8A11-2673AEC5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6C5-1A2E-46D1-B9B1-B615C3CA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5FF-D61C-404D-A6A4-B27707C9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1E7-5B28-4ECF-AC2B-C509F525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E60-F325-4DE1-A7C6-138441B6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102-E507-4A8C-A00A-B99097DA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FF9-3750-47E6-B06C-9C1B5925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6A0-173D-483D-9B6B-D27A6B23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C79-4840-4003-9EC1-B2FE9314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8A3-4B64-4044-A990-288ECF09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F2607-29D2-4874-84DB-A563139BDD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