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08213"/>
        <c:axId val="96674537"/>
      </c:barChart>
      <c:catAx>
        <c:axId val="11508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74537"/>
        <c:crosses val="autoZero"/>
        <c:auto val="1"/>
        <c:lblAlgn val="ctr"/>
        <c:lblOffset val="100"/>
        <c:noMultiLvlLbl val="0"/>
      </c:catAx>
      <c:valAx>
        <c:axId val="96674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08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17D-E379-4D87-8AFA-F2093B1C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4FE-0E16-4E99-9FD5-6CFC9622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D9E-55E5-4DDA-87EB-33F7EDBD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DF6-3BCC-42CA-8A6F-A8573E4A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CD6-364C-4BD6-A73F-CF80A1B8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DF8-2B16-4986-96D0-118D0A48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5D2-0631-483C-BA85-AD9C25E2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D2B-58A2-48F5-AFD6-70CEA663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C51-1A43-42E1-90B6-2CF5E2FB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87A-1D69-41AC-B394-817E5401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F64-AC82-49CD-96B3-22B4902B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BC4-158C-4CE9-85B9-A0A15AEF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0F7D0-1B38-4AAD-AAC7-FFC27D3637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