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23898"/>
        <c:axId val="17388300"/>
      </c:barChart>
      <c:catAx>
        <c:axId val="36823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8300"/>
        <c:crosses val="autoZero"/>
        <c:auto val="1"/>
        <c:lblAlgn val="ctr"/>
        <c:lblOffset val="100"/>
        <c:noMultiLvlLbl val="0"/>
      </c:catAx>
      <c:valAx>
        <c:axId val="17388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23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C34-6388-4BF8-9F84-11E62200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F68-5EBC-41E8-B533-49556398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8D5-FED7-4029-A2B1-E26D3038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865-38C9-443C-B91D-B839277C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AFA-FFA6-4D59-898C-1F481A9B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B6E-442F-43D0-AD77-1D0312A8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627-B375-4A74-BF6C-27A0349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BE0-F410-4CD6-80D1-EBDF4036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476-F233-4ECB-9AE8-943ABA03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5AE-F027-4626-BF07-ECFDF04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35A-5331-447B-B9BF-9BAAFE3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04B-79C2-4F5A-872D-9CBA0BC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60CCF-6212-4728-BD6B-80CF5BAA3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