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546199"/>
        <c:axId val="48300851"/>
      </c:barChart>
      <c:catAx>
        <c:axId val="165461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300851"/>
        <c:crosses val="autoZero"/>
        <c:auto val="1"/>
        <c:lblAlgn val="ctr"/>
        <c:lblOffset val="100"/>
        <c:noMultiLvlLbl val="0"/>
      </c:catAx>
      <c:valAx>
        <c:axId val="483008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5461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83D9-DD8C-4C63-B17B-59366ED8D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B3E1-72A5-48A2-BAFA-3D5216B6A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0559-0FA3-4002-9B58-D754D120D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AE0F-3DB1-4ECC-92F9-36DA270F0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0342-C8BA-4083-8977-9393DC32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1AD0-EF81-4FB1-991E-82C8A82F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B097-E45C-4616-9826-94622746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A91F-98DF-401C-AE3E-D3FB4C52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08BA-E9E2-40D6-BB2E-3C06294E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56D1-CF9B-44E1-8C99-BD31AF7F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6C9E-8BA8-4024-B5BD-22C26743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E936-40FF-496A-9129-29514480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D9CDA-13A6-4AA6-B0AF-ED8854172B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