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82385"/>
        <c:axId val="35110825"/>
      </c:barChart>
      <c:catAx>
        <c:axId val="536823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10825"/>
        <c:crosses val="autoZero"/>
        <c:auto val="1"/>
        <c:lblAlgn val="ctr"/>
        <c:lblOffset val="100"/>
        <c:noMultiLvlLbl val="0"/>
      </c:catAx>
      <c:valAx>
        <c:axId val="351108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823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B91A-9F3B-4BC4-8C8B-468DD8C7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7767-D11A-4879-95F8-FD0D55FC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F509-76EC-4086-9A73-1135465A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9289-770F-41D3-885C-FA5DDB82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2912-7370-4844-B56A-7D7F449E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18F-70AB-4025-89B3-24EC4C8C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1F5B-93C1-4DAC-BCAF-562F11EE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430-B403-4C0E-853A-C1E02935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6C26-38B9-4D43-9B04-85E6A555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A16B-2B6D-4678-82E9-4EA492B9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E8E5-507A-4BD6-82C8-3AA167D0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6AB-18AD-4AC1-B32C-731751DA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D2816-5C15-40E2-A902-74889F15B5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