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31743"/>
        <c:axId val="57141674"/>
      </c:barChart>
      <c:catAx>
        <c:axId val="58031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41674"/>
        <c:crosses val="autoZero"/>
        <c:auto val="1"/>
        <c:lblAlgn val="ctr"/>
        <c:lblOffset val="100"/>
        <c:noMultiLvlLbl val="0"/>
      </c:catAx>
      <c:valAx>
        <c:axId val="57141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31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E94-483E-4E34-9F37-3FE8F7ED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61E-0689-47FC-A2B7-9FD1EDC3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DD5-CFEA-45D3-8699-64BBFC70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A90-01FB-43E0-98DF-F891EF01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37C8-3FA4-46B4-A5B4-E3BFA663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D8E-B767-4978-8B04-06FB564C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3B3-169F-4527-8B10-EDA43184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3FF-E5B5-4426-8B2E-84B37008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F28-5E62-43F1-9583-301C540D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08B-6BED-46B9-BC8F-C30AC226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11C-853E-404B-AA7E-85A54080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DC2E-DAC0-484B-9374-5D0AD995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70653-44C5-42C8-BD40-1686AEAF06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