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18770"/>
        <c:axId val="24594055"/>
      </c:barChart>
      <c:catAx>
        <c:axId val="6681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4055"/>
        <c:crosses val="autoZero"/>
        <c:auto val="1"/>
        <c:lblAlgn val="ctr"/>
        <c:lblOffset val="100"/>
        <c:noMultiLvlLbl val="0"/>
      </c:catAx>
      <c:valAx>
        <c:axId val="24594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0B3-9FC8-4C31-B5E0-FE71C84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F59-5234-48FF-B6B7-8178BDBD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FBC-7831-4E3D-972A-4DA6FEB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F33-EADD-49C8-A425-9B68555B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EB4-4A85-4994-BCF4-CF0FD5B7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C42-C8AF-4BF2-9D35-6B0C9C8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A41-C1D0-4526-8D9F-20ECDB2C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61E-39C9-4033-925A-87A474A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87F-287F-49C3-98B0-018F871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996-0F80-47E7-8952-65AEE9E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BDB-A6C3-44E7-844D-F6AD0B5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92D-3B73-4124-817B-30935A8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74F9-CEB4-4054-B135-EA13439AC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