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77081"/>
        <c:axId val="76033613"/>
      </c:barChart>
      <c:catAx>
        <c:axId val="35677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33613"/>
        <c:crosses val="autoZero"/>
        <c:auto val="1"/>
        <c:lblAlgn val="ctr"/>
        <c:lblOffset val="100"/>
        <c:noMultiLvlLbl val="0"/>
      </c:catAx>
      <c:valAx>
        <c:axId val="76033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77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CF2-E463-479D-9BA6-BDD934DA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84F-180D-4694-A4F0-6183E118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E2B-4A5A-47AD-941F-A5C2D4B0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F58-0BDA-44C6-9794-C43F2EF5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604-6633-464F-9833-70A09739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73C-5FF9-4A1F-BD0B-114185B7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672-5617-4974-90AF-6D4D7468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8E2-8964-4FFA-948E-8B446042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975-98B2-4C61-8180-FC452D62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2E2-A12E-42A7-807D-9DD5752E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797-F90C-4E9B-9087-DE67090A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76B-A018-44EF-9620-26CDF7A4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B9D6B-9219-4E8E-B447-E6E2192BF5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