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5160245"/>
        <c:axId val="86890729"/>
      </c:barChart>
      <c:catAx>
        <c:axId val="7516024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890729"/>
        <c:crosses val="autoZero"/>
        <c:auto val="1"/>
        <c:lblAlgn val="ctr"/>
        <c:lblOffset val="100"/>
        <c:noMultiLvlLbl val="0"/>
      </c:catAx>
      <c:valAx>
        <c:axId val="8689072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16024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3E887-E7B4-4B79-8286-3EC3B42F0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E0F93-C5FC-42D4-819A-CA8492F6A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CB4DA-ACFC-4487-A13C-91C3B7F4E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33855-C12F-428D-8F29-E841B82D1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FB720-678D-47D0-92E1-274A87AD8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F220D-59D8-41A6-BC39-7AD7A028B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9BA83-A7CE-453A-AF65-A451D46DE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8630E-B63E-46F8-9444-4AAA2D04C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F4FAE-5B95-4366-AFB9-AF0FE731E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3EF05-388C-41EE-BB65-74033D72B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66F74-5016-478C-8F1B-893231044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2EABA-A065-4D9B-B586-7A7D7C934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983CE0-55EB-44C5-B6D5-C0C48B7CED4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