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81136"/>
        <c:axId val="83706585"/>
      </c:barChart>
      <c:catAx>
        <c:axId val="31281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06585"/>
        <c:crosses val="autoZero"/>
        <c:auto val="1"/>
        <c:lblAlgn val="ctr"/>
        <c:lblOffset val="100"/>
        <c:noMultiLvlLbl val="0"/>
      </c:catAx>
      <c:valAx>
        <c:axId val="83706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1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B84-0FFB-492D-B499-0B4EA6FA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20A-BBBC-4CB2-8EE8-463EB7F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BA8-C0FA-43BA-A896-0AD01C76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FA7-6999-4A9F-9FA6-05D47FFB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03B-680D-490E-B5FE-51FA2B11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F67-A6AB-4B9A-B3C8-E3A9BC80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C02-508C-433A-8652-9B8A1D1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AD1-DB7A-4339-8576-70033C6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1E5-3EF6-4BC1-AACC-F0E14AF4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681-3A97-4777-B796-B0DC6FF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366-CFAE-4E37-B60D-345997F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8C0-6757-4A6B-8183-171CFCD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B26BC-9462-488A-BE34-31BBDDE4D8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