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44670"/>
        <c:axId val="15796780"/>
      </c:barChart>
      <c:catAx>
        <c:axId val="62944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96780"/>
        <c:crosses val="autoZero"/>
        <c:auto val="1"/>
        <c:lblAlgn val="ctr"/>
        <c:lblOffset val="100"/>
        <c:noMultiLvlLbl val="0"/>
      </c:catAx>
      <c:valAx>
        <c:axId val="15796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44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9F6-6999-4F17-9937-137D3C10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B32-FEB2-4CB7-A808-ACA2B842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D24-E643-4870-98EC-3B5540E0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117-A10B-4A4F-ADE3-B40B0C14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65F-461F-4EE9-A90B-834A3988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CF5-1BA8-4C99-A7B0-A6D3E586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F4A-7A9D-48C0-939A-DF26B9FD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D2D-F7F2-42E7-B53A-93861A73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951-97E7-4F07-BF48-E13A73A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362-E063-4C88-B005-5800577C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576-14A9-4364-A026-18415D1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D97-6176-4205-80A8-65B078CA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4C829-BB95-4974-9463-928879E8F0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