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097410"/>
        <c:axId val="48661755"/>
      </c:barChart>
      <c:catAx>
        <c:axId val="800974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61755"/>
        <c:crosses val="autoZero"/>
        <c:auto val="1"/>
        <c:lblAlgn val="ctr"/>
        <c:lblOffset val="100"/>
        <c:noMultiLvlLbl val="0"/>
      </c:catAx>
      <c:valAx>
        <c:axId val="486617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974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C1CD-6234-4763-B299-B2F117824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7772-DAEC-4C8C-A653-64C2C96E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3742-AC14-4364-BDF4-52165DC90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D68B-94EB-46E9-BD60-86C72DF14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22AA-7F63-4C5C-ABD7-75A57D04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0FE5-A7ED-4E99-A68F-5268A14B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1CE4-42D0-48C4-9727-83A809AE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5D3D-3E70-4E87-B3FF-A3AAA905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0D8A-34F2-4ABF-AF56-D7CAF55A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D4E5-88B2-42EF-9C59-25801752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5751-07E2-4541-9E9E-45E78E57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079A-FD7D-4A57-948A-20135533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5C422-812D-4E70-8CEC-626EEBDFED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