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8000583"/>
        <c:axId val="83808466"/>
      </c:barChart>
      <c:catAx>
        <c:axId val="4800058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808466"/>
        <c:crosses val="autoZero"/>
        <c:auto val="1"/>
        <c:lblAlgn val="ctr"/>
        <c:lblOffset val="100"/>
        <c:noMultiLvlLbl val="0"/>
      </c:catAx>
      <c:valAx>
        <c:axId val="8380846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00058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5C5FA-699E-467E-982F-24C283918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98BE7-EE91-4A09-AB2F-F4E6A5AE6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7DA0B-B43A-4C46-B202-8D514E5F8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8A768-7B68-4950-AF4B-E2AEBF631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7421B-310D-41B7-82D7-1D5ADDC2A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8D433-6C9D-40DD-B993-D4BBD2444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42BB4-0992-4BC2-BE49-9BB4612CF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7825A-9232-4682-9B9B-CCEAD6901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49937-DABA-41BF-8DDB-73B64A58D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48DAC-7C49-458A-80C7-C898CD56A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DD459-3A1E-4BA9-914E-1E6654802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17027-C8AB-4CB4-AB3A-093736996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6297CA-4BF1-46F9-BBDB-324439C5C2A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