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067419"/>
        <c:axId val="99558701"/>
      </c:barChart>
      <c:catAx>
        <c:axId val="790674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58701"/>
        <c:crosses val="autoZero"/>
        <c:auto val="1"/>
        <c:lblAlgn val="ctr"/>
        <c:lblOffset val="100"/>
        <c:noMultiLvlLbl val="0"/>
      </c:catAx>
      <c:valAx>
        <c:axId val="995587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0674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2208-D49F-4ABB-8E4A-D502F2691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FD7F-0587-41C1-8BA1-D608D90C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8412-8CFB-4198-9F59-53F3C9635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6391-B4F1-4FCE-B9B6-925983194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3E23-71B2-4F9E-98FB-14D0D01F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CE3E-CE6A-4F39-A3BC-546E811E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3081-2F18-4270-91A2-EC97FB6B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3842-B35F-43A6-A048-37F34E59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A208-ACA8-4847-AE84-69AB02F9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5B8E-6DF2-40FB-B5DF-C529528F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9B75-884B-4918-9AC5-7A18D9ED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AF33-1E8B-41CB-B7EF-90D32FED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CC77D-472F-4FA5-96CA-99A7E6879F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