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3909"/>
        <c:axId val="34709654"/>
      </c:barChart>
      <c:catAx>
        <c:axId val="4553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09654"/>
        <c:crosses val="autoZero"/>
        <c:auto val="1"/>
        <c:lblAlgn val="ctr"/>
        <c:lblOffset val="100"/>
        <c:noMultiLvlLbl val="0"/>
      </c:catAx>
      <c:valAx>
        <c:axId val="34709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3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DC7-FE50-4532-BDF5-04ADECE0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510-2307-4A84-A653-4B0260EB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34C-750E-453F-9CBC-D56E3C19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63A-F936-483B-9361-74E33700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21C-9A16-445D-8C31-95C1E724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0AF-DF3B-49DC-B888-36BA3030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96C-893C-4EBD-991D-EE19BF2C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0CD-E3CF-4325-85E2-20957CA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502-F4B8-4077-B26A-46815FF2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CA9-5425-45FE-8E19-582E2BA6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151-13A2-4478-9C52-EED0E0A6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318-110A-4E6E-A9FC-6BE2150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C80A3-A3B9-4880-A2C8-3EBBE5FA76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