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564704"/>
        <c:axId val="3722448"/>
      </c:barChart>
      <c:catAx>
        <c:axId val="425647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2448"/>
        <c:crosses val="autoZero"/>
        <c:auto val="1"/>
        <c:lblAlgn val="ctr"/>
        <c:lblOffset val="100"/>
        <c:noMultiLvlLbl val="0"/>
      </c:catAx>
      <c:valAx>
        <c:axId val="37224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647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8494-FB6A-4206-8742-3079AA10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D0A0-9C5D-496C-8387-3D04CA7B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B02D-84A5-4DB5-AEF4-A53BBF0F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A3EC-1257-4661-95C7-CD303772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E57-1831-4027-B9B1-3A8159DD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A994-279C-4E1E-8365-BE3B0B3D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189D-99ED-4109-AD39-879124E2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EC2B-2C38-4538-985B-3F1C7A2A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A08B-8A21-4914-949D-6B8F9D02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4981-A799-4BDD-97CB-4032A2E3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1425-120F-4BF6-814F-35359917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EFB2-B325-4460-997D-6232E95E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11FA0-7FB2-49BC-832A-687B9899EF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