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844330"/>
        <c:axId val="902427"/>
      </c:barChart>
      <c:catAx>
        <c:axId val="73844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427"/>
        <c:crosses val="autoZero"/>
        <c:auto val="1"/>
        <c:lblAlgn val="ctr"/>
        <c:lblOffset val="100"/>
        <c:noMultiLvlLbl val="0"/>
      </c:catAx>
      <c:valAx>
        <c:axId val="902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44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1F3-295E-4BAB-A376-91F9F948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64A-4A0E-4F0C-93C3-F0FE2952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7A77-FD5C-4770-8DDF-AA1500F1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F57-D5B1-40DF-83A8-818558A8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0BB-46A1-4B96-A160-189E2CC3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6060-A070-4AF5-BB40-925D71EB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AC39-5414-4293-8E6C-01593616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FDC6-174C-4728-9560-B57D3AB6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AF9-EE4A-4E94-946A-D67B3FD5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5A98-49C7-46E3-8744-E5B91258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730F-A663-43A7-BE62-76F0B5F3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3FAE-14E1-42E0-B622-369BF51C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3FB12-A66E-42DC-9081-038D82114C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