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00891"/>
        <c:axId val="45067225"/>
      </c:barChart>
      <c:catAx>
        <c:axId val="14100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67225"/>
        <c:crosses val="autoZero"/>
        <c:auto val="1"/>
        <c:lblAlgn val="ctr"/>
        <c:lblOffset val="100"/>
        <c:noMultiLvlLbl val="0"/>
      </c:catAx>
      <c:valAx>
        <c:axId val="45067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00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CBE-0FF2-4AE1-962E-5342CA4E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E6B-AA4B-46A6-B11E-66C510E3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CC9-A8BB-4D80-B804-FC02594A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BCF-8E7F-4FC2-88E8-EC4C247C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FA9-3FA9-45A1-8E9B-F08822F9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622-12AF-4E4D-94C1-3090447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A60-1E69-4277-85EF-16380068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F7A-1DDA-4894-89B6-B5B776CD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F4B-3F8E-4039-9E44-64EDC8BF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CD6-6C3F-4AE9-8433-8EA5ADA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0DD-6395-4CFD-8264-903CF78A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A96-3348-4C77-A4E3-266F1BB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E4340-4D44-4463-89D5-6322A9ABD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