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9439B88-EAD2-428C-B539-F235AB63116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9EF34D42-8EE9-47E1-A3BC-F3031D379D8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3C75D714-EB31-4C0C-B2EC-6E36E366756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BFCC903B-C841-4AD2-A9B6-443E94AC9FB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B1A74D7A-1EA1-4C48-A881-F06B9B63E83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46094C-D74C-4284-A337-588925EA0BD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53709044-B637-4E90-A823-E47B470BEFB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F3CE73AB-7704-45B9-9585-444DE44F1EA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422AF8CD-4840-45B2-B188-2A52CF2AC70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38043AE-020F-4790-9189-C8F5D3FD876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C45F61C-BC00-455C-93B8-10DEEA09C62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3D59D2A-0B9B-4E2F-A932-D8BB302BB8C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6172E5-B707-480F-96E1-EF75EE32180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FBA413F-0582-495B-ADEA-C00F6B2C875F}"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EE5486D-7778-4CF6-AA01-CA314F18EAE2}"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7AFFB9E-6338-4478-BA84-4E6F9F14C4B3}"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F4A0FC6-0B4C-449B-84D2-E2D75D77DFC4}"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A4BDAF-8CC3-4E91-9C98-917D72DEAE3E}"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AC8B2B-CA4F-404B-B3EC-9B2B6FF25600}"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FC4A945-C5BD-4BC8-AAC5-BDECF7AF0F37}"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AF811D-AA84-490B-9CA6-CD8198A4424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C17243-4764-4086-B5A2-BC4C40F5913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9DC6FD7-C532-4BAC-BC60-A801597D40C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CA6ED7-834B-4F89-A3B9-917ADD8B0C9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3D47661-6D3C-451B-9368-FB81974510E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52D0F344-FDF6-43B2-8D0F-E5C59EB5A34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6F87B30-9325-424D-A7AE-88C24D19D76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35230C-74FD-4358-8AB1-CC8E1590821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CA8A5EE-D27C-4B00-8DA8-D74D4CBB709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20E9C4D-35AD-4D91-9D2B-6A7A91C1598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DEF58B-AF93-4710-A939-9681AE0A56B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AD8219-E5DF-4E30-BD9A-744BEE25C1B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273C5A-A5CE-4B8C-BA36-618879E64F2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6EEB7A-22EA-4F20-B3C3-6CC5644FC7B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5ECF4E-3D9E-41A3-AF37-387BE314D0F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3FD7A27-478E-49A8-A54C-8538C648349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D9D0BAB-BA99-45CE-AEE5-89F8A08399C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95D739-2B23-4380-97D4-210FEC13968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B542BBE-6D68-4775-81EA-6B9BC7D76F5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CE2BB5B-5842-46F1-9EF5-C80C7C1788D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2C4D74-D77F-47BC-B6BB-261700734E3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2B571A3-758C-42AA-A4A8-79A215AD967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A14E27-076E-4F86-94E9-0D0B728BE13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7C73575-EB0B-4B99-A3BB-276792934DC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937F017-0FA6-474D-B9E6-B8DDF496E0A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327ABBA-AAB6-4C78-B378-38906DCB759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6BE8F8-5782-41A8-8726-0C7C4A3C8D2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40BEB6B-A77E-45A5-87F0-766B6AF598E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D14D482-1AE4-415E-AD15-2E799059839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C6BFA1-96BF-4CC2-8C38-A2C4E79DD5C8}"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125D00D9-B4B5-4132-A8DF-B8BB203E2C8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18B739-A68D-4BFC-B196-1F8416E9E2E2}"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B06ECA-6DCF-41F5-BF8A-4D4C321CB29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9BB70E-207E-46BD-BE79-5876EFFDFF4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C304CC-D570-465C-9A6C-678D43F3CDA6}"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3BCDC76-0337-454B-AAA5-95C03323FC1C}"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DE0CE0-7A05-467D-B460-55E83D20BBD9}"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2E91C3-0AE0-4469-A62C-C61B40AB2682}"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2E78BE-EB84-4635-AF3F-73EC99F8FBAF}"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2533B7-9A86-4F1C-8025-2DA381CA2ADB}"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B2FFCF9C-B2F9-449F-9AA3-67D4C749DAF7}"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E27C69-900B-455B-8D3C-6E4ED329EE2A}"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B08DBA7-04D6-469F-B5A5-6CE53C61F7EF}"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A34C1A-9A44-4C60-85D8-7AB893D2717C}"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7787C3-B3B2-471E-B394-927BD06902D8}"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78C690E-B659-423D-BC8B-5AF71D51BE0D}"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3C6D20-E279-4ECF-BF45-97F32844262F}"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529D7E-A4C9-40A2-8C8A-F5AEC7D78FA6}"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341E678-5501-4D6D-BBF3-4FE89E6F44E8}"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6800FF-4D4C-40D0-A30E-33C9363377D5}"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EAC9E9-22E0-4964-AEDE-6F494EF0CE6A}"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74E3F44A-BC11-4F4D-9688-6B7A3A560710}"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F03EE1F-91D5-45C0-8656-A573460158AF}"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F7AF2A-5F5B-4544-A96F-C43E1978DAD8}"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FAC606C-A449-4BE6-9CEE-6C8C83D43EFD}"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CBAB188-8F9D-4EC8-9E41-54E119C50543}"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EE249A9-70F7-4E43-BEF8-06E421636524}"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15622C-D802-4573-8E9F-F170D7337326}"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DD0D19-F517-4A41-BDAE-14897CB0B075}"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A6A92A4-BF72-4FAC-B8F2-3245E3B54C32}"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4A9737-1756-4F36-B6C3-5535B7CCE425}"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BC9AB8-02B9-473A-B86D-7C8BBB15697F}"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049C1A-EE44-4268-ACAC-60A0DBD13255}"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7FBD561-4D79-440D-B386-FE5FDC8D2FAE}"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95221F-47B2-4700-B624-EF72747FE406}"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1D106E8-72EF-4C10-8A30-AFCD8A606495}"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4E15F32-24EE-437E-85BA-99B997C62AC7}"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E46F23D-9A3E-4A9E-8E46-17708273C217}"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C5F9EEC-481A-4C57-A844-382C9CD275F9}"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096359-9EBE-477D-882D-4209C26A5B51}"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C8B8F17-877D-4E76-8439-6541C7AF8502}"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A1A00F-BEF7-4542-A216-D840F76CF367}"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8391EE6-60B4-47B1-8863-B2C1D01FB33F}"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83F74F-4A1C-4864-A877-92343274F81B}"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866F28-6634-4685-B2DC-15B60636344C}"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D5DDD3-D868-4703-9F30-6A0123B564BB}"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D63F81-7CA3-4BE4-8AAF-D74029DB0B0E}"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385683-E367-4DCB-A736-DA9DFC2C4622}"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B0FBA7-35A3-455B-941B-D4BE733F094F}"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133733-D538-4571-9BA3-4520537252FA}"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C82F019-1B21-42D6-917D-431D59C040C9}"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2FE9D2-22C6-45FC-BDE8-643EA45DAFA3}"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8C951CB-7FFF-49F5-A179-E52572EC335B}"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10F791-D0B4-46B5-AE5F-3A620675F180}"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A97104D-B9FE-4707-9678-88C1F8EC5AAD}"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736444-331F-4594-88D8-467B4319FFD6}"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D8474C9-F70B-4ED3-8572-6D134702E764}"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9BC4906-8A70-4AE2-85BB-AAF2BDF12676}"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020C1D-095D-4800-A90C-7548362B22C1}"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B55E03D-BA0A-486E-B163-3CC07BCBD443}"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BBC1EF-CE43-416A-9B3E-F81E4F973EFF}"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B0C58BC-1943-4A19-BEA2-D7D3BDE79ACB}"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7A98646-A135-4207-A290-DB6287AD0001}"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3D42FFE-FB61-4CAF-9056-B7430EB4F0C5}"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01F72F-A62C-496F-8F4A-4530D8575341}"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F46BE3-48EB-4601-A1A3-331160BDAAFB}"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72A7C8-1189-4890-8FC1-A3A7B47DCFE6}"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