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65441"/>
        <c:axId val="15516995"/>
      </c:barChart>
      <c:catAx>
        <c:axId val="95965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16995"/>
        <c:crosses val="autoZero"/>
        <c:auto val="1"/>
        <c:lblAlgn val="ctr"/>
        <c:lblOffset val="100"/>
        <c:noMultiLvlLbl val="0"/>
      </c:catAx>
      <c:valAx>
        <c:axId val="15516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65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6B3-347A-42FC-A086-5EE929B0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3F0-75D4-4B75-AC99-4DDE358E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F17-553A-4806-A046-DB65394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D5C-D902-4E01-B81F-CBB3D9CB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E6E-7A7D-4F15-A3B8-0472C28F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D43-32A6-4B88-BB80-7D59DC7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BF7-8325-451F-B678-0369195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A65-BCC5-4ED0-9388-BD2C798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BF5-9382-4C77-BF6B-9651C43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DD3-A210-4628-A814-9830236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844-D039-4377-8B3D-13173C7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C7E-746F-48DE-AD35-86B6B15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B788E-BFFB-41A8-980E-FBD903D00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