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22950"/>
        <c:axId val="90100782"/>
      </c:barChart>
      <c:catAx>
        <c:axId val="74222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00782"/>
        <c:crosses val="autoZero"/>
        <c:auto val="1"/>
        <c:lblAlgn val="ctr"/>
        <c:lblOffset val="100"/>
        <c:noMultiLvlLbl val="0"/>
      </c:catAx>
      <c:valAx>
        <c:axId val="90100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22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FA5-F3BB-45DA-8864-75F072B4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5E6-10F2-4B68-8806-6F031840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329-42E5-471A-BC46-D8D120B6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296-B5F6-4A2B-8E4C-D175FAB8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E3D-CEC1-4632-97FC-0499DE1F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87E-0F18-46D8-83B5-59861BA5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6AE-E1FF-44E1-889D-194D0DE8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D7E-01A6-45FB-93AC-BB7E73F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86B-3760-41DF-90C2-27A1DCC2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416-5D4C-4E58-BD03-E9EA7913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1F3-CA29-4EB8-B6C7-BAAA765A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950-EBB2-4E56-9C59-7FA984B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5CCDA-7EFA-4A59-AC49-92B1292A1F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